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85B2-2E53-470E-957F-DCFDB7B7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6B7-8541-45FC-BDA8-67A6096D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4AF4-DABD-408B-93AA-5238AB0D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EC43-385E-4A21-B221-F4AE4B68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72A9-2BE3-475B-8DD2-20D45124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3CE3-70BE-4F4B-8C62-13CCB9EF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311-B743-461F-82B7-EB611C4B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5C80-E844-41D5-83B6-743BF90B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145-C4CB-48CC-B98E-F309C671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8122-0871-40D0-A241-1496F908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B32-8FB0-4C34-9034-A30B3B0D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D284-114C-4255-996C-B4781BE4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3E68-EFE5-41BE-AB92-B23BDF081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hyperlink" Target="http://www.freeplaymusic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236232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Rabbit and the Bird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51055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140440"/>
            <a:ext cx="1616040" cy="1717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84920" y="0"/>
            <a:ext cx="1459080" cy="2195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62320" y="838080"/>
            <a:ext cx="4800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usk til daw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3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143000" y="7621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380880"/>
            <a:ext cx="883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It is better to prepare for the days ahea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ub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ck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00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fine summers day Rubin the rabbit was hopping through the forest and saw Jack the bird getting twi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152440" cy="3238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2971800"/>
            <a:ext cx="1616040" cy="1717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76520" y="3429000"/>
            <a:ext cx="1371600" cy="838080"/>
          </a:xfrm>
          <a:prstGeom prst="wedgeEllipseCallout">
            <a:avLst>
              <a:gd name="adj1" fmla="val -75462"/>
              <a:gd name="adj2" fmla="val 26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2743200"/>
            <a:ext cx="1295640" cy="1143000"/>
          </a:xfrm>
          <a:prstGeom prst="wedgeEllipseCallout">
            <a:avLst>
              <a:gd name="adj1" fmla="val -59805"/>
              <a:gd name="adj2" fmla="val 451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in asked Jack if he wanted to play tag. Jack said I am getting ready for winter and I think you should do the sa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1616040" cy="171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2152800" cy="3238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52480" y="2514600"/>
            <a:ext cx="1447920" cy="10666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2743200"/>
            <a:ext cx="1828800" cy="16765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I am getting ready for w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in said no I’m going to go and play Suit your self said jack. When winter came Rubin was so co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64200" y="2328840"/>
            <a:ext cx="2152800" cy="3238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862280" y="3060720"/>
            <a:ext cx="1616040" cy="1717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971800" y="3048120"/>
            <a:ext cx="1752480" cy="10666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la la la la la la la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400800" y="4191120"/>
            <a:ext cx="1382760" cy="922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315200" y="4648320"/>
            <a:ext cx="762120" cy="653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0000ff"/>
            </a:gs>
            <a:gs pos="100000">
              <a:srgbClr val="ff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inking maybe I should have listened to jack. When he sees Jack he hopped into his nest and slept for the rest of the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529320" y="2241720"/>
            <a:ext cx="2152800" cy="3238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660760" y="2739960"/>
            <a:ext cx="1616040" cy="1717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81280" y="2057400"/>
            <a:ext cx="1981440" cy="1143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hould have list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5:58:27Z</dcterms:created>
  <dc:creator>install</dc:creator>
  <dc:description/>
  <dc:language>en-US</dc:language>
  <cp:lastModifiedBy>install</cp:lastModifiedBy>
  <dcterms:modified xsi:type="dcterms:W3CDTF">2011-05-09T15:53:44Z</dcterms:modified>
  <cp:revision>11</cp:revision>
  <dc:subject/>
  <dc:title>Slide 1</dc:title>
</cp:coreProperties>
</file>